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822-582A-4A8D-819D-4FEADCD2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D98-567C-46AC-83BA-C4A8C5DB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BBB-306D-449C-B095-10B8BE11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558-70B0-4514-BA15-5E92266F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0B3-77F7-439F-8191-566BD814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3B7-FF66-4262-BF1C-6B67061F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330-AC4F-4CD7-A368-FF1B07EB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659-F9E7-48D9-8E2E-BE098592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8E0-F833-46FC-81F5-2EB26682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74B-F1CA-44D0-8C21-53644E0F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96C-6853-441A-A4AA-22C0A10A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801-E02B-48B9-A34D-931A341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DA2B-C101-4E23-9F7B-D0BE8915FA7E}" type="slidenum">
              <a:rPr b="0" lang="it-IT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E3E7-244C-4E59-A321-F82B1C26B4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155520" y="46080"/>
            <a:ext cx="4734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olo 1"/>
          <p:cNvSpPr/>
          <p:nvPr/>
        </p:nvSpPr>
        <p:spPr>
          <a:xfrm>
            <a:off x="-3240" y="2565360"/>
            <a:ext cx="9144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 Light"/>
              </a:rPr>
              <a:t>Università degli Studi di Roma </a:t>
            </a:r>
            <a:r>
              <a:rPr b="1" i="1" lang="it-IT" sz="3200" spc="-1" strike="noStrike">
                <a:solidFill>
                  <a:srgbClr val="000000"/>
                </a:solidFill>
                <a:latin typeface="Calibri Light"/>
              </a:rPr>
              <a:t>Foro Italico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alibri Light"/>
              </a:rPr>
              <a:t>Workshop 1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alibri Light"/>
              </a:rPr>
              <a:t>Sport tutor - 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it-IT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student-athlet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before being an athlete and a student is a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person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. As a person, the athlete is recognized to be a means, or better to say, a human being capable of expressing, of completing the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intrinsic and internal values 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​​and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virtues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that sport as a human practice bears to humank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We recognize that the student-athlete plays this function, a very important function for our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society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and so, consequently we rewards her/him for thi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it-IT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This means that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sport is a human capital 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and able to activate resources that bring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goods to the community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in which we l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In a nutshell, it is not the athlete in herself/himself that we reward (through a special attention when she/he attends a university course or the high school) but her/hi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dedication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as a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person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to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sport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and to it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internal and intrinsic go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85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it-IT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Actually, we are convinced that, dedicating her/his life to sport, to its values and virtues, a person will be always a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better person 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and, therefore, more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useful to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this is the same concept expressed by de Coubertin in his so-called theory of “Sports Republic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89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6922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libri Light"/>
              </a:rPr>
              <a:t>Summing up… the tutor I’d wa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 Light"/>
              </a:rPr>
              <a:t>In the world café, the groups of S-As have identified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 Light"/>
              </a:rPr>
              <a:t>specific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 Light"/>
              </a:rPr>
              <a:t>these characteristics match the same profile of so-called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 Light"/>
              </a:rPr>
              <a:t>learning facilitator </a:t>
            </a:r>
            <a:r>
              <a:rPr b="0" lang="it-IT" sz="2400" spc="-1" strike="noStrike">
                <a:solidFill>
                  <a:srgbClr val="000000"/>
                </a:solidFill>
                <a:latin typeface="Calibri Light"/>
              </a:rPr>
              <a:t>in the theory of Adult Education by Malcom Know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 Light"/>
              </a:rPr>
              <a:t>more than her/his competencies, what URFI’S S-As appreciate in a tutor is her/his being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 Light"/>
              </a:rPr>
              <a:t>a friend and a person capable of motivating, supporting and emotionally stimulating</a:t>
            </a:r>
            <a:r>
              <a:rPr b="0" lang="it-IT" sz="2400" spc="-1" strike="noStrike">
                <a:solidFill>
                  <a:srgbClr val="000000"/>
                </a:solidFill>
                <a:latin typeface="Calibri Light"/>
              </a:rPr>
              <a:t> them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93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58AC-83F2-4AA0-8E92-8A8517470E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815760"/>
            <a:ext cx="8136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Calibri Light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Calibri Light"/>
              </a:rPr>
              <a:t>Workshop 3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Calibri Light"/>
              </a:rPr>
              <a:t>Rome, April 26th, 2016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76080" y="4397400"/>
            <a:ext cx="7553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University of Rome Foro Italico ESTPORT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ttangolo 1"/>
          <p:cNvSpPr/>
          <p:nvPr/>
        </p:nvSpPr>
        <p:spPr>
          <a:xfrm>
            <a:off x="1725120" y="3324240"/>
            <a:ext cx="586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Conclusions on sport tuto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magine 5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50" name="Immagine 6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949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libri Light"/>
              </a:rPr>
              <a:t>Topics of the 3rd worksho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55880" indent="-15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 Light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tutor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I would w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5880" indent="-15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 Light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Ethical issues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in tutoring the student-athl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54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6880" y="13377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 Light"/>
              </a:rPr>
              <a:t>We used the following two questions as a starting point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04960" y="3006720"/>
            <a:ext cx="7678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 algn="just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Calibri Ligh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Does the </a:t>
            </a:r>
            <a:r>
              <a:rPr b="0" lang="it-IT" sz="3200" spc="-1" strike="noStrike">
                <a:solidFill>
                  <a:srgbClr val="ff0000"/>
                </a:solidFill>
                <a:latin typeface="Calibri Light"/>
              </a:rPr>
              <a:t>student-athlete really deserve 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to be tutored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, supported and assisted during and after their  professional career or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 algn="just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Calibri Ligh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What have to be the 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main carachteristics and competencies 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that, as a person, a 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tutor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for student-athletes should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47640" y="1044360"/>
            <a:ext cx="3745080" cy="96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 Light"/>
              </a:rPr>
              <a:t>Methods use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0080" y="2819520"/>
            <a:ext cx="879156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it-IT" sz="3000" spc="-1" strike="noStrike">
                <a:solidFill>
                  <a:srgbClr val="ff0000"/>
                </a:solidFill>
                <a:latin typeface="Calibri Light"/>
              </a:rPr>
              <a:t>World Café Meth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59120" indent="-159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59120" indent="-159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Calibri Light"/>
              </a:rPr>
              <a:t> …</a:t>
            </a:r>
            <a:r>
              <a:rPr b="0" lang="it-IT" sz="3000" spc="-1" strike="noStrike">
                <a:solidFill>
                  <a:srgbClr val="000000"/>
                </a:solidFill>
                <a:latin typeface="Calibri Light"/>
              </a:rPr>
              <a:t>for whom is not familiar with the method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62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48000" y="590400"/>
            <a:ext cx="3222720" cy="9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libri Light"/>
              </a:rPr>
              <a:t>The World café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0920" y="15933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45440" indent="-145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The "World Café" is a structured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conversational process 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intended to facilitate open and intimate discussion, and link ideas within a larger group to access the "collective intelligence" or collective wisdom in the ro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5440" indent="-145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Participants move between a series of tables where they continue the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discussion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 in response to a set of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, which are predetermined and focused on the specific goals of each World Caf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5440" indent="-145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café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 ambience is created in order to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facilitate conversation 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nd represent a third place. In some versions a "talking stick" may be used to make sure that all participants get a chance to sp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5440" indent="-145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s well as speaking and listening, individuals are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encouraged to write or doodle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 on a paper or tablecloth so that when people change tables they can see what previous members have expressed in their own words and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66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 Light"/>
              </a:rPr>
              <a:t>What emerged from our World Caf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2141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1) does the student-athlete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deserv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from an ethical point of view, all that attention, care and support that universities and institutions are giving her/hi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2) why is there all thi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special attention 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by the European Union for student athlet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3) in light of a hypothetical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theory of justic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then, it is right or wrong to help the student-athletes when he decides to attend a university cour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70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56908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libri Light"/>
              </a:rPr>
              <a:t>Conclusive remarks on sport tutor @</a:t>
            </a:r>
            <a:r>
              <a:rPr b="1" i="1" lang="it-IT" sz="3300" spc="-1" strike="noStrike">
                <a:solidFill>
                  <a:srgbClr val="000000"/>
                </a:solidFill>
                <a:latin typeface="Calibri Light"/>
              </a:rPr>
              <a:t>Foro Italic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4920" y="2421000"/>
            <a:ext cx="788652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62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A professional athlete is a person that is engaged in sport for earning a salary and surviving. Sport is not a hobby for her/him. Very few athletes earn lots of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money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from their sport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Most of them are poor and after their sportive professional career are forced to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restart a new lif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74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53800" y="1213920"/>
            <a:ext cx="842148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But what do professional athlete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deserv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for what they do and is what they get deserv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The question of what people deserve, and therefore also the question of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what athletes deserv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are closely connected issues of social justice. (see Rawls' and Miller's theories of justi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An athlete who becomes student (at any level), and participates in national and international competitions, gives prestige and honour to her/his nation, city, community. Sport has in itself intrinsic good and the athlete, through sport, showing her/hi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competencies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virtues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values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transform them into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exstrinsic goods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22:52:52Z</dcterms:created>
  <dc:creator>emanuele</dc:creator>
  <dc:description/>
  <dc:language>en-US</dc:language>
  <cp:lastModifiedBy>Fazio Alessandra</cp:lastModifiedBy>
  <dcterms:modified xsi:type="dcterms:W3CDTF">2017-03-02T05:59:43Z</dcterms:modified>
  <cp:revision>584</cp:revision>
  <dc:subject/>
  <dc:title>Diapositiva 1</dc:title>
</cp:coreProperties>
</file>