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85F8-7F21-4A18-98BF-5353A6CC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8D57-31F7-4A1E-A8B1-694FEDB0C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0411-3C7D-4964-A8CA-72773C4D7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BA87-7705-4E29-8786-89CC44F6FF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C554-0EF7-4948-B7F8-62EB3E913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3CF0-1F97-4F0E-A7E8-62D50A208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5319-FD65-4873-BA2C-163DAD7BF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E4E9-242D-4497-B785-8BF72892D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4C2C9-1AFA-4A4C-9C27-93BEB02A0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2B0B-9EE6-47D4-95E6-87A2127A2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2FB75-1BC2-46C2-928F-43FB82FF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FB403-E6B5-41F7-A839-09384CC2C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44AC7-9A01-479E-8F8E-53C9F00267AB}" type="slidenum">
              <a:rPr b="0" lang="it-IT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Segnaposto numero diapositiva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7392FE-D529-4940-B097-7893C04A797D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AutoShape 7"/>
          <p:cNvSpPr/>
          <p:nvPr/>
        </p:nvSpPr>
        <p:spPr>
          <a:xfrm>
            <a:off x="155520" y="46080"/>
            <a:ext cx="4734000" cy="37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6" descr=""/>
          <p:cNvPicPr/>
          <p:nvPr/>
        </p:nvPicPr>
        <p:blipFill>
          <a:blip r:embed="rId1"/>
          <a:stretch/>
        </p:blipFill>
        <p:spPr>
          <a:xfrm>
            <a:off x="684360" y="0"/>
            <a:ext cx="7920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itolo 1"/>
          <p:cNvSpPr/>
          <p:nvPr/>
        </p:nvSpPr>
        <p:spPr>
          <a:xfrm>
            <a:off x="-3240" y="2565360"/>
            <a:ext cx="9144000" cy="194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alibri Light"/>
              </a:rPr>
              <a:t>Università degli Studi di Roma </a:t>
            </a:r>
            <a:r>
              <a:rPr b="1" i="1" lang="it-IT" sz="3200" spc="-1" strike="noStrike">
                <a:solidFill>
                  <a:srgbClr val="000000"/>
                </a:solidFill>
                <a:latin typeface="Calibri Light"/>
              </a:rPr>
              <a:t>Foro Italico</a:t>
            </a:r>
            <a:br>
              <a:rPr sz="3200"/>
            </a:b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alibri Light"/>
              </a:rPr>
              <a:t>Workshop 1</a:t>
            </a:r>
            <a:br>
              <a:rPr sz="3200"/>
            </a:br>
            <a:r>
              <a:rPr b="1" lang="it-IT" sz="3200" spc="-1" strike="noStrike">
                <a:solidFill>
                  <a:srgbClr val="000000"/>
                </a:solidFill>
                <a:latin typeface="Calibri Light"/>
              </a:rPr>
              <a:t>Sport tutor - CONCLU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split dir="in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it-IT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tudent-athlet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before being an athlete and a student is a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person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. As a person, the athlete is recognized to be a means, or better to say, a human being capable of expressing, of completing the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intrinsic and internal values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​​and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virtue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that sport as a human practice bears to humankin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52280" indent="-1522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We recognize that the student-athlete plays this function, a very important function for our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ociety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and so, consequently we rewards her/him for thi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ro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81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it-IT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This means that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port is a human capital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nd able to activate resources that bring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goods to the community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in which we li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In a nutshell, it is not the athlete in herself/himself that we reward (through a special attention when she/he attends a university course or the high school) but her/hi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dedication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as a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person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to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port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and to it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internal and intrinsic good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85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it-IT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ctually, we are convinced that, dedicating her/his life to sport, to its values and virtues, a person will be always a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better person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nd, therefore, more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useful to socie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this is the same concept expressed by de Coubertin in his so-called theory of “Sports Republic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89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69228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 Light"/>
              </a:rPr>
              <a:t>Summing up… the tutor I’d wan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In the world café, the groups of S-As have identifie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 Light"/>
              </a:rPr>
              <a:t>specific characteristic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these characteristics match the same profile of so-called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 Light"/>
              </a:rPr>
              <a:t>learning facilitator </a:t>
            </a: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in the theory of Adult Education by Malcom Knowl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more than her/his competencies, what URFI’S S-As appreciate in a tutor is her/his being </a:t>
            </a:r>
            <a:r>
              <a:rPr b="0" lang="it-IT" sz="2400" spc="-1" strike="noStrike" u="sng">
                <a:solidFill>
                  <a:srgbClr val="000000"/>
                </a:solidFill>
                <a:uFillTx/>
                <a:latin typeface="Calibri Light"/>
              </a:rPr>
              <a:t>a friend and a person capable of motivating, supporting and emotionally stimulating</a:t>
            </a:r>
            <a:r>
              <a:rPr b="0" lang="it-IT" sz="2400" spc="-1" strike="noStrike">
                <a:solidFill>
                  <a:srgbClr val="000000"/>
                </a:solidFill>
                <a:latin typeface="Calibri Light"/>
              </a:rPr>
              <a:t> them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93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Rectangle 7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C6A27-9463-4589-972A-DF14AA653B46}" type="slidenum"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815760"/>
            <a:ext cx="8136000" cy="230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br>
              <a:rPr sz="3200"/>
            </a:br>
            <a:r>
              <a:rPr b="1" i="1" lang="en-GB" sz="3200" spc="-1" strike="noStrike">
                <a:solidFill>
                  <a:srgbClr val="000000"/>
                </a:solidFill>
                <a:latin typeface="Calibri Light"/>
              </a:rPr>
              <a:t>from</a:t>
            </a:r>
            <a:r>
              <a:rPr b="1" lang="en-GB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Workshop 3</a:t>
            </a:r>
            <a:br>
              <a:rPr sz="3300"/>
            </a:br>
            <a:r>
              <a:rPr b="0" lang="en-GB" sz="3300" spc="-1" strike="noStrike">
                <a:solidFill>
                  <a:srgbClr val="000000"/>
                </a:solidFill>
                <a:latin typeface="Calibri Light"/>
              </a:rPr>
              <a:t>Rome, April 26th, 2016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576080" y="4397400"/>
            <a:ext cx="7553160" cy="93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B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alibri"/>
              </a:rPr>
              <a:t>University of Rome Foro Italico ESTPORT Uni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ttangolo 1"/>
          <p:cNvSpPr/>
          <p:nvPr/>
        </p:nvSpPr>
        <p:spPr>
          <a:xfrm>
            <a:off x="1725120" y="3324240"/>
            <a:ext cx="586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0000"/>
                </a:solidFill>
                <a:latin typeface="Calibri"/>
              </a:rPr>
              <a:t>Conclusions on sport tutor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Immagine 5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50" name="Immagine 6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89496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 Light"/>
              </a:rPr>
              <a:t>Topics of the 3rd workshop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79280" y="213372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55880" indent="-15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 Light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the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tutor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I would want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58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55880" indent="-1558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Calibri Light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Ethical issues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in tutoring the student-athle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54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96880" y="1337760"/>
            <a:ext cx="7886880" cy="132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 Light"/>
              </a:rPr>
              <a:t>We used the following two questions as a starting point: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804960" y="3006720"/>
            <a:ext cx="76788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462960" indent="-462960" algn="just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Calibri Ligh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alibri Light"/>
              </a:rPr>
              <a:t>Does the </a:t>
            </a:r>
            <a:r>
              <a:rPr b="0" lang="it-IT" sz="3200" spc="-1" strike="noStrike">
                <a:solidFill>
                  <a:srgbClr val="ff0000"/>
                </a:solidFill>
                <a:latin typeface="Calibri Light"/>
              </a:rPr>
              <a:t>student-athlete really deserve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to be tutored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, supported and assisted during and after their  professional career or no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62960" indent="-462960" algn="just">
              <a:lnSpc>
                <a:spcPct val="90000"/>
              </a:lnSpc>
              <a:spcBef>
                <a:spcPts val="751"/>
              </a:spcBef>
              <a:spcAft>
                <a:spcPts val="601"/>
              </a:spcAft>
              <a:buClr>
                <a:srgbClr val="000000"/>
              </a:buClr>
              <a:buSzPct val="90000"/>
              <a:buFont typeface="Calibri Light"/>
              <a:buAutoNum type="arabicPeriod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What have to be the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main carachteristics and competencies 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that, as a person, a </a:t>
            </a:r>
            <a:r>
              <a:rPr b="0" lang="en-US" sz="3200" spc="-1" strike="noStrike">
                <a:solidFill>
                  <a:srgbClr val="ff0000"/>
                </a:solidFill>
                <a:latin typeface="Calibri Light"/>
              </a:rPr>
              <a:t>tutor</a:t>
            </a:r>
            <a:r>
              <a:rPr b="0" lang="en-US" sz="3200" spc="-1" strike="noStrike">
                <a:solidFill>
                  <a:srgbClr val="000000"/>
                </a:solidFill>
                <a:latin typeface="Calibri Light"/>
              </a:rPr>
              <a:t> for student-athletes should have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347640" y="1044360"/>
            <a:ext cx="3745080" cy="96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 Light"/>
              </a:rPr>
              <a:t>Methods used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60080" y="2819520"/>
            <a:ext cx="8791560" cy="168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159120" indent="-15912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1" lang="it-IT" sz="3000" spc="-1" strike="noStrike">
                <a:solidFill>
                  <a:srgbClr val="ff0000"/>
                </a:solidFill>
                <a:latin typeface="Calibri Light"/>
              </a:rPr>
              <a:t>World Café Method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159120" indent="-1591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 </a:t>
            </a: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	</a:t>
            </a: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 …</a:t>
            </a:r>
            <a:r>
              <a:rPr b="0" lang="it-IT" sz="3000" spc="-1" strike="noStrike">
                <a:solidFill>
                  <a:srgbClr val="000000"/>
                </a:solidFill>
                <a:latin typeface="Calibri Light"/>
              </a:rPr>
              <a:t>for whom is not familiar with the methodology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62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348000" y="590400"/>
            <a:ext cx="3222720" cy="973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 Light"/>
              </a:rPr>
              <a:t>The World café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610920" y="1593360"/>
            <a:ext cx="788652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145440" indent="-145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The "World Café" is a structured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conversational process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intended to facilitate open and intimate discussion, and link ideas within a larger group to access the "collective intelligence" or collective wisdom in the room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5440" indent="-145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Participants move between a series of tables where they continue the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discussion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 in response to a set of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questions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, which are predetermined and focused on the specific goals of each World Café.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5440" indent="-145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café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 ambience is created in order to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facilitate conversation 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nd represent a third place. In some versions a "talking stick" may be used to make sure that all participants get a chance to speak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145440" indent="-14544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As well as speaking and listening, individuals are </a:t>
            </a:r>
            <a:r>
              <a:rPr b="0" lang="en-US" sz="2400" spc="-1" strike="noStrike">
                <a:solidFill>
                  <a:srgbClr val="ff0000"/>
                </a:solidFill>
                <a:latin typeface="Calibri Light"/>
              </a:rPr>
              <a:t>encouraged to write or doodle</a:t>
            </a:r>
            <a:r>
              <a:rPr b="0" lang="en-US" sz="2400" spc="-1" strike="noStrike">
                <a:solidFill>
                  <a:srgbClr val="000000"/>
                </a:solidFill>
                <a:latin typeface="Calibri Light"/>
              </a:rPr>
              <a:t> on a paper or tablecloth so that when people change tables they can see what previous members have expressed in their own words and im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66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39640" y="98100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4000" spc="-1" strike="noStrike">
                <a:solidFill>
                  <a:srgbClr val="000000"/>
                </a:solidFill>
                <a:latin typeface="Calibri Light"/>
              </a:rPr>
              <a:t>What emerged from our World Café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39640" y="214128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1) does the student-athlete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deserv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from an ethical point of view, all that attention, care and support that universities and institutions are giving her/him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2) why is there all thi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special attention 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by the European Union for student athletes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3) in light of a hypothetical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theory of justic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then, it is right or wrong to help the student-athletes when he decides to attend a university course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9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70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980640"/>
            <a:ext cx="856908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it-IT" sz="3300" spc="-1" strike="noStrike">
                <a:solidFill>
                  <a:srgbClr val="000000"/>
                </a:solidFill>
                <a:latin typeface="Calibri Light"/>
              </a:rPr>
              <a:t>Conclusive remarks on sport tutor @</a:t>
            </a:r>
            <a:r>
              <a:rPr b="1" i="1" lang="it-IT" sz="3300" spc="-1" strike="noStrike">
                <a:solidFill>
                  <a:srgbClr val="000000"/>
                </a:solidFill>
                <a:latin typeface="Calibri Light"/>
              </a:rPr>
              <a:t>Foro Italico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664920" y="2421000"/>
            <a:ext cx="7886520" cy="3548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162720" indent="-162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 professional athlete is a person that is engaged in sport for earning a salary and surviving. Sport is not a hobby for her/him. Very few athletes earn lots of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money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from their sport activiti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2720" indent="-16272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Most of them are poor and after their sportive professional career are forced to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restart a new lif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pic>
        <p:nvPicPr>
          <p:cNvPr id="74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Immagine 3" descr=""/>
          <p:cNvPicPr/>
          <p:nvPr/>
        </p:nvPicPr>
        <p:blipFill>
          <a:blip r:embed="rId1"/>
          <a:stretch/>
        </p:blipFill>
        <p:spPr>
          <a:xfrm>
            <a:off x="7454880" y="55440"/>
            <a:ext cx="1603440" cy="1468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 txBox="1"/>
          <p:nvPr/>
        </p:nvSpPr>
        <p:spPr>
          <a:xfrm>
            <a:off x="253800" y="1213920"/>
            <a:ext cx="8421480" cy="552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165960" indent="-165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But what do professional athlete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deserv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for what they do and is what they get deserved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The question of what people deserve, and therefore also the question of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what athletes deserve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are closely connected issues of social justice. (see Rawls' and Miller's theories of justic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165960" indent="-16596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An athlete who becomes student (at any level), and participates in national and international competitions, gives prestige and honour to her/his nation, city, community. Sport has in itself intrinsic good and the athlete, through sport, showing her/his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competencie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virtue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 and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value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, transform them into </a:t>
            </a:r>
            <a:r>
              <a:rPr b="0" lang="en-GB" sz="2800" spc="-1" strike="noStrike">
                <a:solidFill>
                  <a:srgbClr val="ff0000"/>
                </a:solidFill>
                <a:latin typeface="Calibri Light"/>
              </a:rPr>
              <a:t>exstrinsic goods</a:t>
            </a:r>
            <a:r>
              <a:rPr b="0" lang="en-GB" sz="2800" spc="-1" strike="noStrike">
                <a:solidFill>
                  <a:srgbClr val="000000"/>
                </a:solidFill>
                <a:latin typeface="Calibri Light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Immagine 4" descr=""/>
          <p:cNvPicPr/>
          <p:nvPr/>
        </p:nvPicPr>
        <p:blipFill>
          <a:blip r:embed="rId2"/>
          <a:stretch/>
        </p:blipFill>
        <p:spPr>
          <a:xfrm>
            <a:off x="231840" y="119160"/>
            <a:ext cx="2476440" cy="109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07T22:52:52Z</dcterms:created>
  <dc:creator>emanuele</dc:creator>
  <dc:description/>
  <dc:language>en-US</dc:language>
  <cp:lastModifiedBy>Fazio Alessandra</cp:lastModifiedBy>
  <dcterms:modified xsi:type="dcterms:W3CDTF">2017-03-02T05:59:43Z</dcterms:modified>
  <cp:revision>584</cp:revision>
  <dc:subject/>
  <dc:title>Diapositiva 1</dc:title>
</cp:coreProperties>
</file>